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FE0-4046-45BC-A6A7-BB4E4C41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FA9-00F1-4138-AF3E-DD5715C5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663-ECAA-4533-A824-9E34B491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662-8D12-4B68-AE9F-3E81063C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DE6-BD66-4190-88E8-78F18611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618-CA0C-4734-858F-88C833CB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C08-CD3A-4A7D-A114-CC9FF834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091-98C3-4C04-B037-C6AFA655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996-3FB4-481E-B5FC-749F624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18C-3613-4D0E-8085-A6B3BC1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341-FC2C-4D46-8E15-2D2B4F00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386-06CB-482A-B862-B4879685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4C41-9AE1-4372-AB47-55869C95C6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项目五：基于灭点几何的深度图重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于灭点几何的深度图重建方法适用于结构化环境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场景模化为一系列平面的集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2244600" y="3857760"/>
            <a:ext cx="4190760" cy="1981080"/>
            <a:chOff x="2244600" y="3857760"/>
            <a:chExt cx="4190760" cy="1981080"/>
          </a:xfrm>
        </p:grpSpPr>
        <p:sp>
          <p:nvSpPr>
            <p:cNvPr id="44" name="Line 6"/>
            <p:cNvSpPr/>
            <p:nvPr/>
          </p:nvSpPr>
          <p:spPr>
            <a:xfrm>
              <a:off x="2244600" y="42386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7"/>
            <p:cNvSpPr/>
            <p:nvPr/>
          </p:nvSpPr>
          <p:spPr>
            <a:xfrm>
              <a:off x="2701800" y="423864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8"/>
            <p:cNvSpPr/>
            <p:nvPr/>
          </p:nvSpPr>
          <p:spPr>
            <a:xfrm flipV="1">
              <a:off x="4302000" y="423828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2701800" y="4238640"/>
              <a:ext cx="205740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2701800" y="4238640"/>
              <a:ext cx="2361960" cy="83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1"/>
            <p:cNvSpPr/>
            <p:nvPr/>
          </p:nvSpPr>
          <p:spPr>
            <a:xfrm>
              <a:off x="2701800" y="4238640"/>
              <a:ext cx="259056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"/>
            <p:cNvSpPr/>
            <p:nvPr/>
          </p:nvSpPr>
          <p:spPr>
            <a:xfrm>
              <a:off x="2701800" y="4238640"/>
              <a:ext cx="274320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>
              <a:off x="2701800" y="4238640"/>
              <a:ext cx="2838240" cy="352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4"/>
            <p:cNvGrpSpPr/>
            <p:nvPr/>
          </p:nvGrpSpPr>
          <p:grpSpPr>
            <a:xfrm>
              <a:off x="3063240" y="4238640"/>
              <a:ext cx="2838600" cy="1143000"/>
              <a:chOff x="3063240" y="4238640"/>
              <a:chExt cx="2838600" cy="1143000"/>
            </a:xfrm>
          </p:grpSpPr>
          <p:sp>
            <p:nvSpPr>
              <p:cNvPr id="53" name="Line 15"/>
              <p:cNvSpPr/>
              <p:nvPr/>
            </p:nvSpPr>
            <p:spPr>
              <a:xfrm flipH="1">
                <a:off x="3844440" y="4238640"/>
                <a:ext cx="205740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H="1">
                <a:off x="3539520" y="4238640"/>
                <a:ext cx="236232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7"/>
              <p:cNvSpPr/>
              <p:nvPr/>
            </p:nvSpPr>
            <p:spPr>
              <a:xfrm flipH="1">
                <a:off x="3310920" y="4238640"/>
                <a:ext cx="259092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8"/>
              <p:cNvSpPr/>
              <p:nvPr/>
            </p:nvSpPr>
            <p:spPr>
              <a:xfrm flipH="1">
                <a:off x="3158640" y="4238640"/>
                <a:ext cx="2743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9"/>
              <p:cNvSpPr/>
              <p:nvPr/>
            </p:nvSpPr>
            <p:spPr>
              <a:xfrm flipH="1">
                <a:off x="3063240" y="4238640"/>
                <a:ext cx="2838600" cy="35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Oval 20"/>
            <p:cNvSpPr/>
            <p:nvPr/>
          </p:nvSpPr>
          <p:spPr>
            <a:xfrm>
              <a:off x="5864040" y="4200480"/>
              <a:ext cx="76320" cy="763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1"/>
            <p:cNvSpPr/>
            <p:nvPr/>
          </p:nvSpPr>
          <p:spPr>
            <a:xfrm>
              <a:off x="2673000" y="4197240"/>
              <a:ext cx="76320" cy="763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2"/>
            <p:cNvSpPr/>
            <p:nvPr/>
          </p:nvSpPr>
          <p:spPr>
            <a:xfrm>
              <a:off x="2473200" y="385776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3"/>
            <p:cNvSpPr/>
            <p:nvPr/>
          </p:nvSpPr>
          <p:spPr>
            <a:xfrm>
              <a:off x="5825880" y="385776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要求：任意拍摄一幅街道、楼宇、走廊或类似图像，采用基于灭点几何的深度图重建方法重建其深度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4T03:32:08Z</dcterms:created>
  <dc:creator>zcyin</dc:creator>
  <dc:description/>
  <dc:language>en-US</dc:language>
  <cp:lastModifiedBy>zcyin</cp:lastModifiedBy>
  <dcterms:modified xsi:type="dcterms:W3CDTF">2018-05-14T04:30:21Z</dcterms:modified>
  <cp:revision>4</cp:revision>
  <dc:subject/>
  <dc:title>基于灭点几何的深度图重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