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9DD-EF74-44CD-A3E7-31D5B373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9A2-E9C0-47D9-AC43-8A691706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23E-C6D6-4DA9-AB3B-FCD34209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D3B-AF87-4402-A986-2FE7D725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56CD-38A9-4F56-A518-C93D852B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5628-ED18-44B4-A85E-5868BD8C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C12A-8778-45FB-8192-F0822CD9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C73C-5981-4CA5-AA81-FA083149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4387-70C4-4673-A12E-54B8315C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5DE3-6284-4504-BF4F-A21B0F98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DD8A-9D6F-4E82-83D7-F3928239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037-DADC-4D51-987B-3966FDFA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1A36-2DDB-41C6-82FB-56275E17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5C1E-E500-45C7-80A2-E481A755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E5E6-7796-4ECC-8D59-5FC9D627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19DA-110E-4BF0-9EA0-02F06C85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82F0-2D0D-4EE1-8F0A-9483FF30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A108-8C5E-4D3C-807F-72205AF5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45CF-2712-4EF2-9B05-D34B14D2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C0E93-50D6-47C2-92E7-DB1A9CF4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FF59D-6087-4DA6-967A-8D37C3A1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E466-6CD1-43B0-8E87-DA79919F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FD6-D2FC-40F4-B23B-9CFDE41D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2AA96-3743-4B5B-8102-65CB88A1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75E6A-45B2-4C90-B21E-175FB2CC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5CEFC-B318-4944-81F9-A3E61D85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7FDD-4EB7-4BF7-A938-93FE4207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C9B4-771D-4BF6-A981-4139E3BC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176C-1C3C-4A00-926C-C92E9AB7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C1565-9E7E-477D-B053-17BC5F4F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F24-8224-4532-8741-175B1612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291-BA5D-4C93-8DD6-918FBFC7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B19-E151-4395-9D4F-9BE19E91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EA4-4063-4A94-99DF-6CD0A219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E29-4D54-4FE2-A006-34E7B304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525-C9A5-4921-AA11-A85D5F9B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A492-6459-430A-A184-5F29B67E5E0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808C-8474-42E5-A06F-5FA0A52E78F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27DD-2D46-4D28-8489-76250F8B977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599480" y="457200"/>
            <a:ext cx="61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D Acquisition from Sha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204240" y="625464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guet-Perona, ICCV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80880" y="1236600"/>
            <a:ext cx="82296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38280" y="1409760"/>
            <a:ext cx="78674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096400" cy="59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搭建如图所示系统，拍摄某一物体的系列阴影图像（也可拍摄视频）做为输入数据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基于阴影三维重建方法估计物体三维点云数据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利用三维显示软件对物体进行三维重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1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2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2:21:48Z</dcterms:created>
  <dc:creator>ibmuser</dc:creator>
  <dc:description/>
  <dc:language>en-US</dc:language>
  <cp:lastModifiedBy>zcyin</cp:lastModifiedBy>
  <dcterms:modified xsi:type="dcterms:W3CDTF">2018-05-14T03:24:13Z</dcterms:modified>
  <cp:revision>34</cp:revision>
  <dc:subject/>
  <dc:title>第四节 测距成像系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45</vt:lpwstr>
  </property>
</Properties>
</file>