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0AD-DE32-46F8-A63C-6726CF04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B970-F562-4485-80E7-063682F2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8C8-C696-4DDD-B412-D5361CA1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39BD-87CB-40D3-96B4-0F8D83FE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845B-D62F-4F3F-973B-6343C953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08A4-5AB9-4095-A123-D6BD0D4C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A5B6-F48F-4F8D-9D4B-469944FE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04A0-7AFA-452E-A8AC-308B2F64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73B9-B706-4539-847C-C8A091C7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2D31-4253-4A1E-B68A-1FC1B391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EFE1-8B69-4843-8955-635CB6DE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AB5-9179-466B-8EA3-3B7D33E0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1B5E-BBA2-434C-82B2-4473BA98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AD83-6F78-428E-A2F8-4AC37BA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B8BE-8DFC-4965-9EA0-31540168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6C03-C465-436E-81E7-89344365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74A4-476B-47E3-900E-DB3C6BA9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899BC-EB08-460D-8226-ED4B0A3C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A39E-DF8B-4C8F-AC21-CC0D2A99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FD54-46A4-49FD-9675-0D49FA18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14FF-9335-48D0-99ED-B9B6BA78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8ECC-3969-40EB-B662-8C2B6792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75F-5B68-45E7-AC67-FC5932D6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E8C0-B881-4E88-A1E4-B303D0AC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0B5B-9A22-4479-8F58-55FF0366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4D0D1-159C-48EA-8603-4A4CE683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044E-3334-4BE1-9ED2-6FD08402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AAC4-CD5A-40BE-BF45-4D27F804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C2B5-9959-4345-9DB4-27050AE1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A753-5C1B-41AD-A8CA-75ACC973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AE5-E898-4D9E-BB04-4B14CE34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236-3A83-473C-B5E5-82CC1E0B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14E5-C738-435B-B9EB-4C0B50A7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A65-205E-4AB9-BFDA-867BF483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02B-4154-4A80-84D0-0480BF8C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E02-F0A3-4576-AF66-4E7A0E2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9B91-844F-4F35-8B6B-88F7AA73299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7335-E90D-42AF-913B-9E0359A9CD5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8833-66F5-4DB0-A61F-0357BD4DBCB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项目二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: Structure from mo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8392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编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F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程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：学期结束之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3EA0-DA8F-4B03-B8A0-716BAA0531D8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V: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D9F9-44AE-4BF8-943A-98BDACFA4B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2" descr=""/>
          <p:cNvPicPr/>
          <p:nvPr/>
        </p:nvPicPr>
        <p:blipFill>
          <a:blip r:embed="rId1"/>
          <a:stretch/>
        </p:blipFill>
        <p:spPr>
          <a:xfrm>
            <a:off x="1828800" y="2301840"/>
            <a:ext cx="22176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5"/>
          <p:cNvGrpSpPr/>
          <p:nvPr/>
        </p:nvGrpSpPr>
        <p:grpSpPr>
          <a:xfrm>
            <a:off x="5661000" y="2284200"/>
            <a:ext cx="739440" cy="1337040"/>
            <a:chOff x="5661000" y="2284200"/>
            <a:chExt cx="739440" cy="1337040"/>
          </a:xfrm>
        </p:grpSpPr>
        <p:sp>
          <p:nvSpPr>
            <p:cNvPr id="136" name="Rectangle 6"/>
            <p:cNvSpPr/>
            <p:nvPr/>
          </p:nvSpPr>
          <p:spPr>
            <a:xfrm rot="16200000">
              <a:off x="5556600" y="2818080"/>
              <a:ext cx="1290600" cy="2610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rot="18480000">
              <a:off x="6087960" y="2332440"/>
              <a:ext cx="238320" cy="23724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8"/>
            <p:cNvSpPr/>
            <p:nvPr/>
          </p:nvSpPr>
          <p:spPr>
            <a:xfrm rot="18480000">
              <a:off x="6266160" y="2467440"/>
              <a:ext cx="55800" cy="101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 rot="18480000">
              <a:off x="6130080" y="2375640"/>
              <a:ext cx="147600" cy="14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 rot="16200000">
              <a:off x="6263280" y="2582280"/>
              <a:ext cx="193680" cy="8064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 rot="16200000">
              <a:off x="6096240" y="2605320"/>
              <a:ext cx="101520" cy="10116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2"/>
            <p:cNvSpPr/>
            <p:nvPr/>
          </p:nvSpPr>
          <p:spPr>
            <a:xfrm rot="16200000">
              <a:off x="6116760" y="2624400"/>
              <a:ext cx="55440" cy="5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3"/>
            <p:cNvSpPr/>
            <p:nvPr/>
          </p:nvSpPr>
          <p:spPr>
            <a:xfrm rot="18900000">
              <a:off x="6096600" y="3360600"/>
              <a:ext cx="215280" cy="21564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 rot="18900000">
              <a:off x="6186240" y="3358800"/>
              <a:ext cx="33120" cy="21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 rot="16200000">
              <a:off x="5660280" y="2760840"/>
              <a:ext cx="398520" cy="397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74747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 rot="16200000">
              <a:off x="6110280" y="2845080"/>
              <a:ext cx="322200" cy="22932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38383"/>
                </a:gs>
              </a:gsLst>
              <a:lin ang="540000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7"/>
            <p:cNvSpPr/>
            <p:nvPr/>
          </p:nvSpPr>
          <p:spPr>
            <a:xfrm rot="16200000">
              <a:off x="6122160" y="2628360"/>
              <a:ext cx="160200" cy="36720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38383"/>
                </a:gs>
              </a:gsLst>
              <a:lin ang="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 rot="16200000">
              <a:off x="6124680" y="2929680"/>
              <a:ext cx="162000" cy="36720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 rot="16200000">
              <a:off x="5859000" y="2891880"/>
              <a:ext cx="458640" cy="13932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6994440" y="321264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view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553080" y="2984040"/>
            <a:ext cx="533520" cy="381240"/>
            <a:chOff x="6553080" y="2984040"/>
            <a:chExt cx="533520" cy="381240"/>
          </a:xfrm>
        </p:grpSpPr>
        <p:sp>
          <p:nvSpPr>
            <p:cNvPr id="152" name="Line 21"/>
            <p:cNvSpPr/>
            <p:nvPr/>
          </p:nvSpPr>
          <p:spPr>
            <a:xfrm flipH="1" flipV="1">
              <a:off x="6553080" y="2984040"/>
              <a:ext cx="533520" cy="381240"/>
            </a:xfrm>
            <a:prstGeom prst="line">
              <a:avLst/>
            </a:prstGeom>
            <a:ln w="12600">
              <a:solidFill>
                <a:srgbClr val="0066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 rot="10800000">
              <a:off x="6553080" y="2984040"/>
              <a:ext cx="53352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Freeform 22"/>
          <p:cNvSpPr/>
          <p:nvPr/>
        </p:nvSpPr>
        <p:spPr>
          <a:xfrm>
            <a:off x="584280" y="2200320"/>
            <a:ext cx="4902120" cy="3403440"/>
          </a:xfrm>
          <a:custGeom>
            <a:avLst/>
            <a:gdLst/>
            <a:ahLst/>
            <a:rect l="l" t="t" r="r" b="b"/>
            <a:pathLst>
              <a:path w="3088" h="2144">
                <a:moveTo>
                  <a:pt x="3088" y="496"/>
                </a:moveTo>
                <a:cubicBezTo>
                  <a:pt x="2896" y="488"/>
                  <a:pt x="2704" y="480"/>
                  <a:pt x="2608" y="544"/>
                </a:cubicBezTo>
                <a:cubicBezTo>
                  <a:pt x="2512" y="608"/>
                  <a:pt x="2480" y="752"/>
                  <a:pt x="2512" y="880"/>
                </a:cubicBezTo>
                <a:cubicBezTo>
                  <a:pt x="2544" y="1008"/>
                  <a:pt x="2824" y="1128"/>
                  <a:pt x="2800" y="1312"/>
                </a:cubicBezTo>
                <a:cubicBezTo>
                  <a:pt x="2776" y="1496"/>
                  <a:pt x="2672" y="1872"/>
                  <a:pt x="2368" y="1984"/>
                </a:cubicBezTo>
                <a:cubicBezTo>
                  <a:pt x="2064" y="2096"/>
                  <a:pt x="1352" y="2144"/>
                  <a:pt x="976" y="1984"/>
                </a:cubicBezTo>
                <a:cubicBezTo>
                  <a:pt x="600" y="1824"/>
                  <a:pt x="224" y="1328"/>
                  <a:pt x="112" y="1024"/>
                </a:cubicBezTo>
                <a:cubicBezTo>
                  <a:pt x="0" y="720"/>
                  <a:pt x="248" y="320"/>
                  <a:pt x="304" y="160"/>
                </a:cubicBezTo>
                <a:cubicBezTo>
                  <a:pt x="360" y="0"/>
                  <a:pt x="404" y="32"/>
                  <a:pt x="448" y="64"/>
                </a:cubicBezTo>
              </a:path>
            </a:pathLst>
          </a:custGeom>
          <a:noFill/>
          <a:ln w="28440">
            <a:solidFill>
              <a:srgbClr val="0066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3"/>
          <p:cNvGrpSpPr/>
          <p:nvPr/>
        </p:nvGrpSpPr>
        <p:grpSpPr>
          <a:xfrm>
            <a:off x="2566800" y="5065560"/>
            <a:ext cx="1337040" cy="739800"/>
            <a:chOff x="2566800" y="5065560"/>
            <a:chExt cx="1337040" cy="739800"/>
          </a:xfrm>
        </p:grpSpPr>
        <p:sp>
          <p:nvSpPr>
            <p:cNvPr id="156" name="Rectangle 24"/>
            <p:cNvSpPr/>
            <p:nvPr/>
          </p:nvSpPr>
          <p:spPr>
            <a:xfrm>
              <a:off x="2589120" y="547668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 rot="2280000">
              <a:off x="3617640" y="5491080"/>
              <a:ext cx="237960" cy="23796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 rot="2280000">
              <a:off x="3638160" y="5649480"/>
              <a:ext cx="5544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 rot="2280000">
              <a:off x="3661920" y="5537160"/>
              <a:ext cx="147600" cy="14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8"/>
            <p:cNvSpPr/>
            <p:nvPr/>
          </p:nvSpPr>
          <p:spPr>
            <a:xfrm>
              <a:off x="3465360" y="572436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9"/>
            <p:cNvSpPr/>
            <p:nvPr/>
          </p:nvSpPr>
          <p:spPr>
            <a:xfrm>
              <a:off x="3481560" y="5499000"/>
              <a:ext cx="101520" cy="10152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0"/>
            <p:cNvSpPr/>
            <p:nvPr/>
          </p:nvSpPr>
          <p:spPr>
            <a:xfrm>
              <a:off x="3503520" y="5522760"/>
              <a:ext cx="55800" cy="5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1"/>
            <p:cNvSpPr/>
            <p:nvPr/>
          </p:nvSpPr>
          <p:spPr>
            <a:xfrm rot="2700000">
              <a:off x="2611440" y="5499000"/>
              <a:ext cx="216000" cy="21600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2"/>
            <p:cNvSpPr/>
            <p:nvPr/>
          </p:nvSpPr>
          <p:spPr>
            <a:xfrm rot="2700000">
              <a:off x="2700720" y="5496480"/>
              <a:ext cx="33120" cy="215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3"/>
            <p:cNvSpPr/>
            <p:nvPr/>
          </p:nvSpPr>
          <p:spPr>
            <a:xfrm>
              <a:off x="3024360" y="5065560"/>
              <a:ext cx="398160" cy="398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74747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4"/>
            <p:cNvSpPr/>
            <p:nvPr/>
          </p:nvSpPr>
          <p:spPr>
            <a:xfrm>
              <a:off x="3062160" y="5562360"/>
              <a:ext cx="322560" cy="23040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38383"/>
                </a:gs>
              </a:gsLst>
              <a:lin ang="540000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5"/>
            <p:cNvSpPr/>
            <p:nvPr/>
          </p:nvSpPr>
          <p:spPr>
            <a:xfrm>
              <a:off x="3292560" y="542448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38383"/>
                </a:gs>
              </a:gsLst>
              <a:lin ang="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6"/>
            <p:cNvSpPr/>
            <p:nvPr/>
          </p:nvSpPr>
          <p:spPr>
            <a:xfrm>
              <a:off x="2994120" y="542448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7"/>
            <p:cNvSpPr/>
            <p:nvPr/>
          </p:nvSpPr>
          <p:spPr>
            <a:xfrm>
              <a:off x="2994120" y="542448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8"/>
          <p:cNvGrpSpPr/>
          <p:nvPr/>
        </p:nvGrpSpPr>
        <p:grpSpPr>
          <a:xfrm>
            <a:off x="533520" y="2660400"/>
            <a:ext cx="739440" cy="1337040"/>
            <a:chOff x="533520" y="2660400"/>
            <a:chExt cx="739440" cy="1337040"/>
          </a:xfrm>
        </p:grpSpPr>
        <p:sp>
          <p:nvSpPr>
            <p:cNvPr id="171" name="Rectangle 39"/>
            <p:cNvSpPr/>
            <p:nvPr/>
          </p:nvSpPr>
          <p:spPr>
            <a:xfrm rot="5400000">
              <a:off x="86400" y="3202560"/>
              <a:ext cx="1290600" cy="2610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40"/>
            <p:cNvSpPr/>
            <p:nvPr/>
          </p:nvSpPr>
          <p:spPr>
            <a:xfrm rot="7680000">
              <a:off x="607320" y="3711600"/>
              <a:ext cx="238320" cy="23724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41"/>
            <p:cNvSpPr/>
            <p:nvPr/>
          </p:nvSpPr>
          <p:spPr>
            <a:xfrm rot="7680000">
              <a:off x="611640" y="3712680"/>
              <a:ext cx="55800" cy="101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42"/>
            <p:cNvSpPr/>
            <p:nvPr/>
          </p:nvSpPr>
          <p:spPr>
            <a:xfrm rot="7680000">
              <a:off x="655920" y="3759840"/>
              <a:ext cx="147600" cy="14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3"/>
            <p:cNvSpPr/>
            <p:nvPr/>
          </p:nvSpPr>
          <p:spPr>
            <a:xfrm rot="5400000">
              <a:off x="477000" y="3618720"/>
              <a:ext cx="193680" cy="8064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44"/>
            <p:cNvSpPr/>
            <p:nvPr/>
          </p:nvSpPr>
          <p:spPr>
            <a:xfrm rot="5400000">
              <a:off x="735840" y="3574800"/>
              <a:ext cx="101520" cy="10116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45"/>
            <p:cNvSpPr/>
            <p:nvPr/>
          </p:nvSpPr>
          <p:spPr>
            <a:xfrm rot="5400000">
              <a:off x="761760" y="3601800"/>
              <a:ext cx="55440" cy="5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46"/>
            <p:cNvSpPr/>
            <p:nvPr/>
          </p:nvSpPr>
          <p:spPr>
            <a:xfrm rot="8100000">
              <a:off x="621720" y="2705040"/>
              <a:ext cx="215280" cy="215640"/>
            </a:xfrm>
            <a:prstGeom prst="ellipse">
              <a:avLst/>
            </a:prstGeom>
            <a:solidFill>
              <a:srgbClr val="5f5f5f"/>
            </a:solidFill>
            <a:ln w="1260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7"/>
            <p:cNvSpPr/>
            <p:nvPr/>
          </p:nvSpPr>
          <p:spPr>
            <a:xfrm rot="8100000">
              <a:off x="714240" y="2706480"/>
              <a:ext cx="33120" cy="21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c4c4c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8"/>
            <p:cNvSpPr/>
            <p:nvPr/>
          </p:nvSpPr>
          <p:spPr>
            <a:xfrm rot="5400000">
              <a:off x="874800" y="3123000"/>
              <a:ext cx="398520" cy="397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74747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9"/>
            <p:cNvSpPr/>
            <p:nvPr/>
          </p:nvSpPr>
          <p:spPr>
            <a:xfrm rot="5400000">
              <a:off x="501480" y="3207240"/>
              <a:ext cx="322200" cy="22932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38383"/>
                </a:gs>
              </a:gsLst>
              <a:lin ang="540000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0"/>
            <p:cNvSpPr/>
            <p:nvPr/>
          </p:nvSpPr>
          <p:spPr>
            <a:xfrm rot="5400000">
              <a:off x="651240" y="3285720"/>
              <a:ext cx="160200" cy="36720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38383"/>
                </a:gs>
              </a:gsLst>
              <a:lin ang="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1"/>
            <p:cNvSpPr/>
            <p:nvPr/>
          </p:nvSpPr>
          <p:spPr>
            <a:xfrm rot="5400000">
              <a:off x="647280" y="2984760"/>
              <a:ext cx="162000" cy="36720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52"/>
            <p:cNvSpPr/>
            <p:nvPr/>
          </p:nvSpPr>
          <p:spPr>
            <a:xfrm rot="5400000">
              <a:off x="615960" y="3250080"/>
              <a:ext cx="458640" cy="13932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599840"/>
            <a:ext cx="780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要求：任意拍摄某一物体的多视角度图像或一段运动视频。采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FM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算法，重建该物体三维点云，并显示出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报告应包括基本理论、算法步骤及中间结果、最终重建三维结果。如对原算法有改进创新，应重点说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需提交算法代码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2:21:48Z</dcterms:created>
  <dc:creator>ibmuser</dc:creator>
  <dc:description/>
  <dc:language>en-US</dc:language>
  <cp:lastModifiedBy>zcyin</cp:lastModifiedBy>
  <dcterms:modified xsi:type="dcterms:W3CDTF">2018-04-13T08:53:24Z</dcterms:modified>
  <cp:revision>38</cp:revision>
  <dc:subject/>
  <dc:title>第四节 测距成像系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3</vt:lpwstr>
  </property>
</Properties>
</file>